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F1D-5E0C-42E3-9628-32C7B557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FAC-ABE6-45C8-BD4A-380AA9A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65F-5E99-44EB-84E8-87B957C3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D65-6004-41D1-8764-0DCE3D19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5259-7CF7-4F5A-9EAA-49F41D4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827-204E-4CD0-8774-99EA0ED8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8142-86C4-472B-AC73-8B72824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A613-7ABA-4556-8E4F-05AB4AA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5F4-5A6A-4248-98F5-184BF740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2C43-E7CB-4EC5-B07D-D00CCB7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8DC3-8A95-47AA-ACC9-DB838E3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B35-3601-4D30-B7DE-2920AF1D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7469-3A8D-433D-A3A6-9F93AFD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7C6-508C-4B7D-85E8-D0ACFAF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7DC5-A4F6-44D7-97DC-950EF70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86F5-1BE9-4250-A5E2-7178698C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5FA-EF15-49D7-8D8B-F9EB4B7D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495C-5B1F-43BD-8E3D-0C8048C9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2850-58B0-4F8B-80E6-098F41D9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8214-AE22-496C-AFB6-ECE3FEC5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17AD-1654-4655-A6D4-E7E2779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9412-727D-4FAF-B7CB-E1BF7AF5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AEC-EF26-4C78-A63E-6F2B3675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2D34-2A00-4759-8396-514EF970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E5DA-01F2-42B2-B295-EA6A3A9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21C4-1100-4785-8E55-1DDDB7CF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9A7E-8532-4DAE-9049-492BAD1D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B877-82B5-4DF6-8564-9E92624F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FDF5-08FD-40BD-8882-41A7BD2D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DE53-4D2A-4E68-ADF7-FEC6F63B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D86A-3C50-4D57-83A3-3C20B7A1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3907-0698-4F49-B03A-B5CD64E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1FF6-56FF-45E0-BB45-787FC35F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B32-5865-48B4-B772-539AEFA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FA1C-1E20-4FEC-8B02-54457785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05B3-AB98-452A-B265-D8FB87A8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4337-6C09-4477-87F9-0C849F4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5BDA-9C17-4A86-BAAD-21B3892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2067-E0C3-4D1A-85C7-C1EBB7D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8963-3992-438C-906F-856151C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2833-6168-4F49-93A9-AFA0A52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C1AB-D281-41A6-B230-D7CA3066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2EF4-DFAC-450E-BA79-48EE92FC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5DAC-46DB-46C1-9EB2-9CB8C91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99B-AE58-4A34-9FB6-1FB3CD8B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D8A0-1230-410F-A065-2E03CBC4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DE06-8CAB-45DE-935E-A5F4120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0D561-C77C-4A47-9D5B-603A408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BE70-EDB1-4D69-AE01-214AE28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F688-BE99-4271-9140-3050449E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50F1F-A634-41E7-83D6-18C6D40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E79A-DE5F-4627-BB6E-0C5135A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FB4B-CBD0-40FD-942D-10D1C21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C918-90BE-44D4-877A-9EC5D9EE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CD36-9AD3-4D8C-A2BD-03ED5A24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A0D-B8A5-4291-BC9D-AA39BC93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4B5B-5F3D-4943-9387-B333D5B0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3264-CB66-48AA-9B36-FE5E0D2F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1FE8C-586F-492B-82F0-23D8619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0F6C5-D3F6-4A7E-98AF-126CE39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17E8-FE2C-42D8-98B6-046B14A6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5D96-B4D7-4525-A442-81926DE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7662-ED7B-4B28-BD74-AD7B41B5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235F-E821-4020-B177-57DCBD8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2EFF-2C50-4C49-B636-6933545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3898-2457-4A30-ABAE-9AC5FD3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84D-CDED-47A4-B9B6-93C421E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9F4E1-FD24-4240-A1E1-DBA0686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AC64-8B8A-4EC2-8A8E-06E17A33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8CC8-BBA5-440D-A6B4-9ABDF4CF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C5A-4C67-49F0-81FC-1E0512A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FE2-641C-4181-9758-DCDBBE2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EC39-AA44-4F85-873B-1FE2286A985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C72-0EA3-45A8-B2FA-F25EC36CF33A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58B6-479E-4E42-93A2-42CD5C60BD1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EAE-810F-4F79-B3EC-9E7ACCC4A9F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4753-1941-404F-90A1-333EFDEDE3D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851-3642-4D04-A6DA-FCD76329AE9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1f497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hildren’s Brains are only 25% developed at birth. The more stimulation a child has through all of it’s senses (hearing, taste, touch, smell, sight) the more rapidly further development will occur (M. Fox, 200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5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5:32:45Z</dcterms:created>
  <dc:creator>Jennine</dc:creator>
  <dc:description/>
  <dc:language>en-US</dc:language>
  <cp:lastModifiedBy>Jennine</cp:lastModifiedBy>
  <dcterms:modified xsi:type="dcterms:W3CDTF">2009-08-29T15:52:39Z</dcterms:modified>
  <cp:revision>2</cp:revision>
  <dc:subject/>
  <dc:title>Engaging all Learners through Technology</dc:title>
</cp:coreProperties>
</file>